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DA19E-58C6-4F40-B0BF-36F7C7619B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0CA06-67B2-488F-8196-B79A5DC3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F5A21-2AC9-464F-B8AD-F1812012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4363B-7F90-45FB-8A49-E88C87EFB2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C12E7-8FEF-409C-B383-4509503E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0C19-FA5A-4AB4-8C36-40B379F3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08152-2CB3-40D0-9D08-AE7B0C93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1EC4A-FFC4-43B9-BCFA-90B0ADFD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5EED5-7520-4EAF-B68E-F7859052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0BB8B-DBC5-4018-BA2A-D8E8F58B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29F60-6E85-42F9-814B-AF448D09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91819-4350-47EE-9A3E-0F613D86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44E2-3CCA-4DA7-975F-49B9A99186A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2100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抗病毒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Franklin Gothic Book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71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又名无环鸟苷。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【作用特点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多聚酶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阻断病毒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的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带状疱疹病毒及乙型肝炎病毒也有一定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右箭头 1"/>
          <p:cNvSpPr/>
          <p:nvPr/>
        </p:nvSpPr>
        <p:spPr>
          <a:xfrm flipV="1">
            <a:off x="5219640" y="2564640"/>
            <a:ext cx="432000" cy="14292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628640"/>
            <a:ext cx="829944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临床应用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首选用于单纯疱疹病毒Ⅰ、Ⅱ型感染</a:t>
            </a:r>
            <a:r>
              <a:rPr b="0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二）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三）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6280" y="1628640"/>
            <a:ext cx="72198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不良反应和药疗监护须知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不良反应少：偶有头晕、头痛；呕吐；斑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滴给药：偶见可逆性肾功能紊乱（血尿素及肌酐水平升高）、静脉炎等。也可出现神经毒性（震颤、谵妄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（二）药疗监护须知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脉滴注给药时，嘱患者大量饮水，以避免血尿素及肌酐升高；肾功能减退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经常更换注射部位，以防发生血栓性静脉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霜剂可有一过性烧灼感或疼痛，小部分有皮疹、轻度干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少数患者用眼膏后有一过性轻度疼痛，但不必终止治疗，愈后无明显后遗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Franklin Gothic Medium"/>
                <a:ea typeface="隶书"/>
              </a:rPr>
              <a:t>其他抗病毒药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1280" y="939960"/>
          <a:ext cx="9002880" cy="5559120"/>
        </p:xfrm>
        <a:graphic>
          <a:graphicData uri="http://schemas.openxmlformats.org/drawingml/2006/table">
            <a:tbl>
              <a:tblPr/>
              <a:tblGrid>
                <a:gridCol w="2162160"/>
                <a:gridCol w="4007160"/>
                <a:gridCol w="2833560"/>
              </a:tblGrid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药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特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。临床用于防治流感、腺病毒肺炎、甲型肝炎、疱疹及麻疹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溶血性贫血和骨髓功能抑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金刚烷胺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阻止病毒进入宿主细胞并抑制其复制。用于甲型流感的预防和早期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致畸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是一种逆转录酶抑制剂，艾滋病治疗首选药物，可改善临床症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头痛、肝毒性，停药可恢复，骨髓移植：白细胞减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多聚酶而抑制病毒生长。用于治疗巨细胞病毒性视网膜炎、肺炎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产生严重的肾毒性，其他包括电解质紊乱、癫痫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6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奥司他韦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抑制新形成的病毒颗粒从被染细胞释放而阻止病毒在体内的传播。主要用于流行性感冒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主要是消化道症状，还可出现咳嗽、眩晕、头痛、失眠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2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碘苷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doxuri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疱疹净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全身应用毒性大，仅局部应用治疗单纯疱疹病毒性角膜炎及其他疱疹性眼病效果较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引起瘙痒症，局部刺激疼痛，眼部轻微水肿，不宜长期应用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53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具有广谱抗病毒活性，亦具有免疫调节及抗肿瘤作用，主要用于治疗各型慢性病毒性乙型肝炎、带状疱疹，还用于恶性肿瘤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9:36Z</dcterms:modified>
  <cp:revision>2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